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057-8DB4-44EE-BD98-2DE8523B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0605-C861-4BC8-AF0E-64516541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C59E-AEC9-4B89-A0D4-8C28C8D6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12C-BAA8-4299-BD36-8633CF80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110-6A0C-447E-980B-6298026B5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892A-AD3F-4B79-971C-4988549C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CD1-7CBC-4230-BB33-A6CEF8EF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B9ED-74A1-4F67-8B34-4F30CF7CC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551-6AA5-477F-B1B0-193E73D5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8B3-210F-4663-9748-BED20F6C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FEA7-9BE4-4F1A-95C5-DEE4C8617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6747-02AD-4AA5-9246-E0D7CA33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434-1C08-4655-8AF3-B4EE2586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083C-82CC-44A0-A536-109001917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498C-61E1-49E0-A24F-5F4A29E95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F377-7FBE-4874-877D-F1D687CBB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A40B-0F6E-416E-8A75-E522627BC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CD3-3260-4532-B599-C4F68316F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F31-853E-4037-AA2D-6CD57E8B1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5C2A-BFD6-4DE3-B242-24AA2CF2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8BFC-19EC-4147-809B-D5EB6CD82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EBA-6923-49DC-B53E-2D8F4B818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CEE-2136-4F49-9288-731E3F48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EF9-4F35-4C16-9436-4E1E3411B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B116-5E3C-42FC-9956-B6C44FFB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D6A-B48C-4A7C-8F9A-C5147BAF6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E68-60A1-4FC0-AD05-92A07A6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E6D-77E8-40FC-A304-F33BD29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80C-8A51-4368-9AA8-4FFEB3A5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6002-0D98-421D-8553-9994D29C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120D-98A3-441C-96ED-73047D66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C5C-D5D7-456A-87E8-DC8F63B3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354-56D6-46CC-B485-3C9B0868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22C-0665-4B91-AF58-ED30A53B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330-25D7-4330-8292-12A2179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A45-757E-4B31-8B93-54AED872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07A-FA25-4E6D-BCF1-1ACD8EE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F35-2EF2-4028-AF42-84B3D4DC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3106-D802-43D4-B14F-40453307E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closelyobserved.com/" TargetMode="External"/><Relationship Id="rId3" Type="http://schemas.openxmlformats.org/officeDocument/2006/relationships/hyperlink" Target="http://www.thepatchworkraven.com/submissions" TargetMode="External"/><Relationship Id="rId4" Type="http://schemas.openxmlformats.org/officeDocument/2006/relationships/hyperlink" Target="http://www.themightyline.com/" TargetMode="External"/><Relationship Id="rId5" Type="http://schemas.openxmlformats.org/officeDocument/2006/relationships/hyperlink" Target="https://manager.submittable.com/beta/discover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PP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707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8"/>
          <p:cNvSpPr/>
          <p:nvPr/>
        </p:nvSpPr>
        <p:spPr>
          <a:xfrm>
            <a:off x="609480" y="83808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469"/>
                </a:solidFill>
                <a:latin typeface="Arial"/>
              </a:rPr>
              <a:t>Creative Wri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9"/>
          <p:cNvSpPr/>
          <p:nvPr/>
        </p:nvSpPr>
        <p:spPr>
          <a:xfrm>
            <a:off x="609480" y="1676520"/>
            <a:ext cx="67057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6b70"/>
                </a:solidFill>
                <a:latin typeface="Arial"/>
              </a:rPr>
              <a:t>A Framework for a Creative Writing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36b70"/>
                </a:solidFill>
                <a:latin typeface="Arial"/>
              </a:rPr>
              <a:t>Christopher Wal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36b70"/>
                </a:solidFill>
                <a:latin typeface="Arial"/>
              </a:rPr>
              <a:t>www.closelyobserve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az 1" descr=""/>
          <p:cNvPicPr/>
          <p:nvPr/>
        </p:nvPicPr>
        <p:blipFill>
          <a:blip r:embed="rId2"/>
          <a:stretch/>
        </p:blipFill>
        <p:spPr>
          <a:xfrm>
            <a:off x="5148360" y="4941720"/>
            <a:ext cx="3819600" cy="1482840"/>
          </a:xfrm>
          <a:prstGeom prst="rect">
            <a:avLst/>
          </a:prstGeom>
          <a:ln w="0">
            <a:noFill/>
          </a:ln>
        </p:spPr>
      </p:pic>
      <p:pic>
        <p:nvPicPr>
          <p:cNvPr id="52" name="Obraz 2" descr=""/>
          <p:cNvPicPr/>
          <p:nvPr/>
        </p:nvPicPr>
        <p:blipFill>
          <a:blip r:embed="rId3"/>
          <a:stretch/>
        </p:blipFill>
        <p:spPr>
          <a:xfrm>
            <a:off x="635040" y="5013360"/>
            <a:ext cx="156528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09480" y="1371600"/>
            <a:ext cx="79232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What is better – necrophilia or bestiali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755640" y="3987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Possible Answer: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The Twilight S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09480" y="1371600"/>
            <a:ext cx="7923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The situation we were all accustomed to has suddenly chang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755640" y="3987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Possible Answer: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A Tale of Two Cities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09480" y="1371600"/>
            <a:ext cx="79232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We need to get the thing before the bad people use the thing*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Arial MT"/>
              </a:rPr>
              <a:t>*also called a MacGuf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755640" y="3987720"/>
            <a:ext cx="77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Possible Answers: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Every </a:t>
            </a:r>
            <a:r>
              <a:rPr b="1" lang="en-GB" sz="2800" spc="-1" strike="noStrike">
                <a:solidFill>
                  <a:srgbClr val="7f7f7f"/>
                </a:solidFill>
                <a:latin typeface="Arial"/>
              </a:rPr>
              <a:t>Mission Impossible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film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609480" y="1371600"/>
            <a:ext cx="79232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b70"/>
                </a:solidFill>
                <a:latin typeface="Arial MT"/>
              </a:rPr>
              <a:t>Good stories also tend to involve a character motivated in some way to interact with the point of inter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b70"/>
                </a:solidFill>
                <a:latin typeface="Arial MT"/>
              </a:rPr>
              <a:t>Here are some example characters. How are they motivated to deal with the point of inter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2. A Motivated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77800" y="378936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Framed for a crime he didn’t commi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3"/>
          <a:stretch/>
        </p:blipFill>
        <p:spPr>
          <a:xfrm>
            <a:off x="1817640" y="1036800"/>
            <a:ext cx="5445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77800" y="378936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A farmer’s boy from some backwoods plan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" descr=""/>
          <p:cNvPicPr/>
          <p:nvPr/>
        </p:nvPicPr>
        <p:blipFill>
          <a:blip r:embed="rId3"/>
          <a:stretch/>
        </p:blipFill>
        <p:spPr>
          <a:xfrm>
            <a:off x="2125800" y="961920"/>
            <a:ext cx="4890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77800" y="3913200"/>
            <a:ext cx="792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A boy suddenly discovers his magical desti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2536920" y="1027080"/>
            <a:ext cx="40687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77800" y="4292640"/>
            <a:ext cx="79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Umm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3"/>
          <a:stretch/>
        </p:blipFill>
        <p:spPr>
          <a:xfrm>
            <a:off x="1992240" y="1117440"/>
            <a:ext cx="5157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A Simpl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2340000" y="2293920"/>
            <a:ext cx="4824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700360" y="2781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The Patchwork R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62120" y="1371600"/>
            <a:ext cx="7924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Let’s combine these two basic story elements with the idea of an authentic aud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2340000" y="4046400"/>
            <a:ext cx="4824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50864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“</a:t>
            </a: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Backyard Ear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The Patchwork 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A black sign with white text&#10;&#10;Description automatically generated"/>
          <p:cNvPicPr/>
          <p:nvPr/>
        </p:nvPicPr>
        <p:blipFill>
          <a:blip r:embed="rId3"/>
          <a:stretch/>
        </p:blipFill>
        <p:spPr>
          <a:xfrm>
            <a:off x="2163600" y="1279440"/>
            <a:ext cx="481680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4"/>
          <p:cNvSpPr/>
          <p:nvPr/>
        </p:nvSpPr>
        <p:spPr>
          <a:xfrm>
            <a:off x="762120" y="1371600"/>
            <a:ext cx="69339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What do the following all have in com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6b70"/>
              </a:buClr>
              <a:buFont typeface="Arial MT 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E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6b70"/>
              </a:buClr>
              <a:buFont typeface="Arial MT 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6b70"/>
              </a:buClr>
              <a:buFont typeface="Arial MT 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6b70"/>
              </a:buClr>
              <a:buFont typeface="Arial MT 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36b70"/>
              </a:buClr>
              <a:buFont typeface="Arial MT B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The answer: they are all common writing types in the B2, C1, and C2 Cambridge ex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5800" y="3049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Creative Writing in the EFL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ih"/>
          <p:cNvPicPr/>
          <p:nvPr/>
        </p:nvPicPr>
        <p:blipFill>
          <a:blip r:embed="rId2"/>
          <a:stretch/>
        </p:blipFill>
        <p:spPr>
          <a:xfrm>
            <a:off x="471600" y="41904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The Patchwork 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A picture containing person&#10;&#10;Description automatically generated"/>
          <p:cNvPicPr/>
          <p:nvPr/>
        </p:nvPicPr>
        <p:blipFill>
          <a:blip r:embed="rId3"/>
          <a:stretch/>
        </p:blipFill>
        <p:spPr>
          <a:xfrm>
            <a:off x="5286240" y="1773360"/>
            <a:ext cx="3400560" cy="37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A screenshot of text&#10;&#10;Description automatically generated"/>
          <p:cNvPicPr/>
          <p:nvPr/>
        </p:nvPicPr>
        <p:blipFill>
          <a:blip r:embed="rId4"/>
          <a:stretch/>
        </p:blipFill>
        <p:spPr>
          <a:xfrm>
            <a:off x="457200" y="1341360"/>
            <a:ext cx="4545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A Simpl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/>
          <p:cNvSpPr/>
          <p:nvPr/>
        </p:nvSpPr>
        <p:spPr>
          <a:xfrm>
            <a:off x="2340000" y="990720"/>
            <a:ext cx="4824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700360" y="147780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A Point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89120" y="2814480"/>
            <a:ext cx="79246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In your class, get your students started by having them research one of the countries on the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This can be done with something as simple as a Google search: “Interesting Facts About &lt;&lt;COUNTRY&gt;&gt;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They can then mingle and share this point of interest with other students. Their job is to think up a motivated character to interact with the point of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Ou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6"/>
          <p:cNvSpPr/>
          <p:nvPr/>
        </p:nvSpPr>
        <p:spPr>
          <a:xfrm>
            <a:off x="2340000" y="990720"/>
            <a:ext cx="4824360" cy="3230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64000" y="1197000"/>
            <a:ext cx="41763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468"/>
                </a:solidFill>
                <a:latin typeface="Arial MT Bd"/>
              </a:rPr>
              <a:t>The Marshall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Used by the USA for extensive nuclear testing; the Americans are supposed to pay the Marshall Islands $7 billion compens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"/>
          <p:cNvSpPr/>
          <p:nvPr/>
        </p:nvSpPr>
        <p:spPr>
          <a:xfrm>
            <a:off x="671400" y="4653000"/>
            <a:ext cx="79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Arial"/>
              </a:rPr>
              <a:t>Can you think of a character who would be motivated to interact with this point of interest? Who would they be? What would they wan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6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685800" y="1192320"/>
            <a:ext cx="2462040" cy="12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04880" y="1228680"/>
            <a:ext cx="2425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Ukr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Kiev is home to the deepest underground station in the world – Arsenalna station is 105m below the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627280" y="4597560"/>
            <a:ext cx="24624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646360" y="4668840"/>
            <a:ext cx="24256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Est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468"/>
                </a:solidFill>
                <a:latin typeface="Arial MT Bd"/>
              </a:rPr>
              <a:t>Saaremaa, an oak tree in the middle of a football field in Orissaare, won European Tree of the Year Award in 2015</a:t>
            </a: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986120" y="2897280"/>
            <a:ext cx="24620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008080" y="2927520"/>
            <a:ext cx="2425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San Mar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Despite competing at 19 Olympics, no-one from San Marino has ever won a med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>
            <a:off x="4684680" y="2897280"/>
            <a:ext cx="24606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702320" y="2927520"/>
            <a:ext cx="2425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Bel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The longest street in Minsk – Independence Avenue – is 15km long, and has had its name changed 14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5435640" y="4597560"/>
            <a:ext cx="24620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454720" y="4668840"/>
            <a:ext cx="24256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Po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Until its collapse in 1991, the Warsaw Radio Mast was the tallest structure in th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359160" y="1193760"/>
            <a:ext cx="24620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359160" y="1262160"/>
            <a:ext cx="24256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468"/>
                </a:solidFill>
                <a:latin typeface="Arial MT Bd"/>
              </a:rPr>
              <a:t>Mold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468"/>
                </a:solidFill>
                <a:latin typeface="Arial MT Bd"/>
              </a:rPr>
              <a:t>Moldova has the lowest per capita GDP of any country in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Adding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2340000" y="990720"/>
            <a:ext cx="4824360" cy="29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00360" y="1125360"/>
            <a:ext cx="4175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A Point 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A Motivated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468"/>
                </a:solidFill>
                <a:latin typeface="Arial MT Bd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55640" y="4067280"/>
            <a:ext cx="7924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Arial MT"/>
              </a:rPr>
              <a:t>In pairs, talk about one of your points of interest and consider the motivated character you liked the m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636b70"/>
                </a:solidFill>
                <a:latin typeface="Arial MT"/>
              </a:rPr>
              <a:t>Now add a source of conflict – something that works against your character in their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Arial MT"/>
              </a:rPr>
              <a:t>How will the character deal with the conflict? The resolution of the conflict will provide you with the basic </a:t>
            </a:r>
            <a:r>
              <a:rPr b="1" lang="en-US" sz="2000" spc="-1" strike="noStrike">
                <a:solidFill>
                  <a:srgbClr val="636b70"/>
                </a:solidFill>
                <a:latin typeface="Arial MT"/>
              </a:rPr>
              <a:t>story</a:t>
            </a:r>
            <a:r>
              <a:rPr b="0" lang="en-US" sz="2000" spc="-1" strike="noStrike">
                <a:solidFill>
                  <a:srgbClr val="636b70"/>
                </a:solidFill>
                <a:latin typeface="Arial MT"/>
              </a:rPr>
              <a:t>.</a:t>
            </a: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ih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"/>
          <p:cNvSpPr/>
          <p:nvPr/>
        </p:nvSpPr>
        <p:spPr>
          <a:xfrm>
            <a:off x="762120" y="1371600"/>
            <a:ext cx="7619760" cy="49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For a copy of the slides from this worksh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MT"/>
                <a:hlinkClick r:id="rId2"/>
              </a:rPr>
              <a:t>www.closelyobserved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Students can submit their country-themed story 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	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MT"/>
                <a:hlinkClick r:id="rId3"/>
              </a:rPr>
              <a:t>www.thepatchworkraven.com/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For (paid) feedback on a short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 MT"/>
                <a:hlinkClick r:id="rId4"/>
              </a:rPr>
              <a:t>www.themightyli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For more submission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	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MT"/>
                <a:hlinkClick r:id="rId5"/>
              </a:rPr>
              <a:t>https://manager.submittable.com/beta/dis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Link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h"/>
          <p:cNvPicPr/>
          <p:nvPr/>
        </p:nvPicPr>
        <p:blipFill>
          <a:blip r:embed="rId6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8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469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1280" y="4400280"/>
            <a:ext cx="7472160" cy="12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ristopher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ernational House Bielsko-Bi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raz 4" descr=""/>
          <p:cNvPicPr/>
          <p:nvPr/>
        </p:nvPicPr>
        <p:blipFill>
          <a:blip r:embed="rId1"/>
          <a:stretch/>
        </p:blipFill>
        <p:spPr>
          <a:xfrm>
            <a:off x="3036960" y="1469880"/>
            <a:ext cx="309564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6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Ru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 rot="20391600">
            <a:off x="448920" y="1498680"/>
            <a:ext cx="3921120" cy="213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4"/>
          <a:stretch/>
        </p:blipFill>
        <p:spPr>
          <a:xfrm rot="1161000">
            <a:off x="4188960" y="1676520"/>
            <a:ext cx="4449960" cy="279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5"/>
          <a:stretch/>
        </p:blipFill>
        <p:spPr>
          <a:xfrm rot="21290400">
            <a:off x="1495080" y="4009680"/>
            <a:ext cx="4089240" cy="2239920"/>
          </a:xfrm>
          <a:prstGeom prst="rect">
            <a:avLst/>
          </a:prstGeom>
          <a:ln w="9360">
            <a:solidFill>
              <a:srgbClr val="d1d1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Problems with traditional rub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ih"/>
          <p:cNvPicPr/>
          <p:nvPr/>
        </p:nvPicPr>
        <p:blipFill>
          <a:blip r:embed="rId2"/>
          <a:stretch/>
        </p:blipFill>
        <p:spPr>
          <a:xfrm>
            <a:off x="457200" y="38088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2340000" y="2293920"/>
            <a:ext cx="4824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700360" y="2781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They are inauthen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120" y="137160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"/>
              </a:rPr>
              <a:t>IMO there are 2 big problems with these rubr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2340000" y="4046400"/>
            <a:ext cx="482436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e00"/>
              </a:gs>
              <a:gs pos="100000">
                <a:srgbClr val="fff0c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700360" y="4270320"/>
            <a:ext cx="41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68"/>
                </a:solidFill>
                <a:latin typeface="Arial MT Bd"/>
              </a:rPr>
              <a:t>They do not reflect the writing interests of th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4"/>
          <p:cNvSpPr/>
          <p:nvPr/>
        </p:nvSpPr>
        <p:spPr>
          <a:xfrm>
            <a:off x="762120" y="1371600"/>
            <a:ext cx="69339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Assuming that at least some of our students would like to write creative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How do we deal with the problem of authentic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6b70"/>
                </a:solidFill>
                <a:latin typeface="Arial MT Bd"/>
              </a:rPr>
              <a:t>We must look for real-world publishers and write stories that fit their submission guide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36b70"/>
                </a:solidFill>
                <a:latin typeface="Arial MT Bd"/>
              </a:rPr>
              <a:t>We will explore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A Question of Authent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IH"/>
          <p:cNvPicPr/>
          <p:nvPr/>
        </p:nvPicPr>
        <p:blipFill>
          <a:blip r:embed="rId1"/>
          <a:stretch/>
        </p:blipFill>
        <p:spPr>
          <a:xfrm>
            <a:off x="81532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ih"/>
          <p:cNvPicPr/>
          <p:nvPr/>
        </p:nvPicPr>
        <p:blipFill>
          <a:blip r:embed="rId2"/>
          <a:stretch/>
        </p:blipFill>
        <p:spPr>
          <a:xfrm>
            <a:off x="471600" y="41904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09480" y="1371600"/>
            <a:ext cx="7923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36b70"/>
                </a:solidFill>
                <a:latin typeface="Arial MT"/>
              </a:rPr>
              <a:t>What makes a good stor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The Basic Elements of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09480" y="1371600"/>
            <a:ext cx="79232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b70"/>
                </a:solidFill>
                <a:latin typeface="Arial MT"/>
              </a:rPr>
              <a:t>Good stories tend to revolve around a </a:t>
            </a:r>
            <a:r>
              <a:rPr b="1" lang="en-US" sz="3600" spc="-1" strike="noStrike">
                <a:solidFill>
                  <a:srgbClr val="636b70"/>
                </a:solidFill>
                <a:latin typeface="Arial MT"/>
              </a:rPr>
              <a:t>point of interest</a:t>
            </a:r>
            <a:r>
              <a:rPr b="0" lang="en-US" sz="3600" spc="-1" strike="noStrike">
                <a:solidFill>
                  <a:srgbClr val="636b70"/>
                </a:solidFill>
                <a:latin typeface="Arial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36b70"/>
                </a:solidFill>
                <a:latin typeface="Arial MT"/>
              </a:rPr>
              <a:t>Here are some examples. Can you name the book or movie they ar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1. A Point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609480" y="1371600"/>
            <a:ext cx="7923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A primitive but noble tribe comes into contact with superior technolog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755640" y="3987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Possible Answers: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Avatar, Dances With W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09480" y="1371600"/>
            <a:ext cx="7923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36b70"/>
                </a:solidFill>
                <a:latin typeface="Arial MT"/>
              </a:rPr>
              <a:t>We must rescue the princess locked up in the castl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36b7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h"/>
          <p:cNvPicPr/>
          <p:nvPr/>
        </p:nvPicPr>
        <p:blipFill>
          <a:blip r:embed="rId1"/>
          <a:stretch/>
        </p:blipFill>
        <p:spPr>
          <a:xfrm>
            <a:off x="-1440" y="5870520"/>
            <a:ext cx="9145440" cy="987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8580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469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ih"/>
          <p:cNvPicPr/>
          <p:nvPr/>
        </p:nvPicPr>
        <p:blipFill>
          <a:blip r:embed="rId2"/>
          <a:stretch/>
        </p:blipFill>
        <p:spPr>
          <a:xfrm>
            <a:off x="471600" y="404640"/>
            <a:ext cx="2142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755640" y="398772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7f7f7f"/>
                </a:solidFill>
                <a:latin typeface="Arial"/>
              </a:rPr>
              <a:t>Possible Answers: </a:t>
            </a:r>
            <a:r>
              <a:rPr b="0" lang="en-GB" sz="2800" spc="-1" strike="noStrike">
                <a:solidFill>
                  <a:srgbClr val="7f7f7f"/>
                </a:solidFill>
                <a:latin typeface="Arial"/>
              </a:rPr>
              <a:t>Star Wars IV, Robin Hood: Prince of Thi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5:49:55Z</dcterms:created>
  <dc:creator>Andy Barker</dc:creator>
  <dc:description/>
  <dc:language>en-US</dc:language>
  <cp:lastModifiedBy>Christopher Walker</cp:lastModifiedBy>
  <dcterms:modified xsi:type="dcterms:W3CDTF">2019-09-15T11:05:50Z</dcterms:modified>
  <cp:revision>47</cp:revision>
  <dc:subject/>
  <dc:title>PowerPoint Presentation</dc:title>
</cp:coreProperties>
</file>